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83C-A836-4423-AAEF-EAD6F04E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36F-F10D-451E-909B-3F2E017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1B9-DDB2-461E-A04B-15EBC037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A45-B4AA-47BD-AB64-72C0F7D4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F9F-286D-41A7-947F-08F9E029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3DE-9F22-4BDE-B7B9-028A6B7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06A-58B6-4C88-BF2A-058A6BA0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110-FC16-48F9-A431-2F562A6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5C8-9099-4E67-8D75-66FACF5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E27-E4B3-489C-AF9B-AB2212B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AF7-F41F-4F72-8AF1-90415D2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6C9-A372-4AE6-8B38-33F266D5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2D5-694E-49B3-B167-EA1E4C50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108000" y="620640"/>
            <a:ext cx="4235400" cy="561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9440" y="115920"/>
            <a:ext cx="60465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 и</a:t>
            </a:r>
            <a:r>
              <a:rPr b="1" lang="en-US" sz="54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НИ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ДРЕВНЕЙ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ГРЕ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19280" y="4365720"/>
            <a:ext cx="3745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Gothic"/>
              </a:rPr>
              <a:t>ИНТЕРА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Gothic"/>
              </a:rPr>
              <a:t>РИСУНОК-Т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x@ukrpost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204-A884-4A59-98DE-C90837D16D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180A1-ADB2-4B6B-B7F0-D2F9C2058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87320" y="3230640"/>
            <a:ext cx="35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-покровитель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A53-FFDB-4D21-B1AB-037ED2D979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2400" y="3002040"/>
            <a:ext cx="361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мудр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ё священная птица –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E51-E774-4B70-98B5-83FCBFAB22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6400" y="32306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красоты и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E01-D76D-4C07-89EB-79157BB397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28400" y="3002040"/>
            <a:ext cx="393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здники в честь эт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ли начало теа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978-8F13-41E8-AA4D-A7394FEB77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26600" y="3002040"/>
            <a:ext cx="39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, который прик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метея к Кавказским г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5C1-A8D1-43F5-ACEE-7F10E17E6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2960" y="3002040"/>
            <a:ext cx="415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анник Зевса, покр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AD5-2E20-4B83-AC84-FCF0B05A99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230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0EA-E52D-46A7-A617-53B9AEE3C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6040" y="1211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ff"/>
                </a:solidFill>
                <a:latin typeface="Arial"/>
              </a:rPr>
              <a:t>М  О  Л  О  Д  Е  Ц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97280" y="256536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AFF-ED88-4757-BFCB-77438D6548B3}" type="slidenum">
              <a:t>17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6040" y="11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ПРОБУЙ ЕЩЁ РАЗ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797280" y="2421000"/>
            <a:ext cx="1549440" cy="1990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931480" y="480996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НЕ ТОРОП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ДУМА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662-48C7-4BD8-9E40-0F100AC29D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ГЕОГРАФИЧЕСКОЕ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989000"/>
            <a:ext cx="49273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ция располо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о-Восточной Европ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е Балканског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легающих обла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I-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 н.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еческие племена рассел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веро-восточном Средиземномор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я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мешались с племенами, вторгшимися с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27680" y="1557360"/>
            <a:ext cx="3917880" cy="446400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7C5-A173-4760-9C85-7FD7D66FFC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538360" y="189000"/>
            <a:ext cx="3960720" cy="134460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ГЕОГРАФ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2303640" y="2100240"/>
            <a:ext cx="4429080" cy="11527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УСЛОВИЯ и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235320" y="3819600"/>
            <a:ext cx="2565360" cy="108108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6" idx="4"/>
            <a:endCxn id="47" idx="0"/>
          </p:cNvCxnSpPr>
          <p:nvPr/>
        </p:nvCxnSpPr>
        <p:spPr>
          <a:xfrm flipH="1">
            <a:off x="4517640" y="1552680"/>
            <a:ext cx="216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4"/>
            <a:endCxn id="48" idx="0"/>
          </p:cNvCxnSpPr>
          <p:nvPr/>
        </p:nvCxnSpPr>
        <p:spPr>
          <a:xfrm>
            <a:off x="4517640" y="3271320"/>
            <a:ext cx="108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3235320" y="5468760"/>
            <a:ext cx="2565360" cy="10573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Б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8" idx="4"/>
            <a:endCxn id="51" idx="0"/>
          </p:cNvCxnSpPr>
          <p:nvPr/>
        </p:nvCxnSpPr>
        <p:spPr>
          <a:xfrm>
            <a:off x="4517640" y="4919400"/>
            <a:ext cx="1080" cy="531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34200" y="3403440"/>
            <a:ext cx="232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ДЛЯ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НАЖ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СООТВЕТ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О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B1E-62CC-46D5-A3AA-31466AA51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ИРОДНЫЕ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УСЛОВИЯ и 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 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меренно-тёпл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природа – кра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нообр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е масс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сн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дуб, бу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каш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х росли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чнозелёны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пари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лавр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олеанд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ч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лись плодород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ребовали тщательной обрабо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A1A-F53E-4DD3-B34C-DE788D830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СНОВНЫЕ ЗА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ми занятиями греков в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-IX 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орны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азведение коров, коз, овец, свин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вни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ыращивание пшеницы, ячменя, винограда, оливо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этот период грекам уже было известн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желез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о оно было дорогим. Поэтому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ед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ронзо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уд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ки занимались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емесл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оргов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и морской. Но она еще не была регулярной из-за несовершенство кораблей и была тесно связана с морским разб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742-A71C-4BA7-9A73-2594BC6F9F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СНОВНЫЕ Б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сказаниях —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миф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греки старались объяснить происхождение всего, что окружало человека: явления природы, отношения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ифах вымысел тесно переплетается с действительностью, благодаря чему есть возможность понять много фактов жизни давних г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и из богов они считали громовержц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Зев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Морской стихией «ведал»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сейд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Богом солнца, который ездил в золотой колеснице по небу, был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ли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ме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ыла богиней плодородия, 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богом подземного царства. Лесных богов —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сати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греки воображали в виде людей, которые обросли шерстью, с козлиными ногами и ушами. Родниковых богинь изображали в виде девчат и называли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нимф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италось, что боги не только руководят природой, но и хозяйственными занятиями. Так бог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иони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ил людей выращивать виноград и делать вино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ф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ровительствовал кузнецам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рм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торговле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ртем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охоте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пол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скусству. Богиней любви и красоты был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фрод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а мудрости —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ф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сть богов греки строили храмы, устанавливали статуи, проводили религиозного праздника и обряды, которые состояли в принесении даров сверхъестественным силам (жертвопринош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01C-EB19-43B8-879B-BE0B4167F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84360" y="189000"/>
          <a:ext cx="2807640" cy="3239640"/>
        </p:xfrm>
        <a:graphic>
          <a:graphicData uri="http://schemas.openxmlformats.org/drawingml/2006/table">
            <a:tbl>
              <a:tblPr/>
              <a:tblGrid>
                <a:gridCol w="326520"/>
                <a:gridCol w="353880"/>
                <a:gridCol w="353880"/>
                <a:gridCol w="353520"/>
                <a:gridCol w="354240"/>
                <a:gridCol w="353880"/>
                <a:gridCol w="356040"/>
                <a:gridCol w="35568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29240" y="3573360"/>
            <a:ext cx="88171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     Богиня-покровительница ох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     Герой, совершивший 12 подви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     Богиня любви и крас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    Город-государство на Пелопонн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    Женщина, из-за которой, по мнению древних греков, началась Троянск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    Чудовище, жившее на Кр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    Покровительница реки, рощи или горной долин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    Гора, где греки «поселили» своих главных б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    Дочь царя феаков в поэме Гомера «Одиссе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ссворд решён правильно, то по вертикали вы прочита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я предводителя греков-ахейцев в Троянск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1112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8000"/>
                </a:solidFill>
                <a:uFillTx/>
                <a:latin typeface="Book Antiqua"/>
              </a:rPr>
              <a:t>КРОССВОРД  ВЗЯТ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Уколова О.С.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преподавате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истории и обществознания МО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имназии № 210 «Корифей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. Екатерин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A15-EF77-4F26-BECB-340A7C14B2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ЛИТЕРАТУРА ДЛЯ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ер Г.И. Задания и задачи по истории древнего мира. М.: Просвещение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ванов Н.Н. 300 вопросов и ответов о мифологии. Ярославль: Академия развития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мышанова З.А. Камышанов К.А. 300 вопросов и ответов по истории и культуре древнего мира. Ярославль: Академия развития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шенкова О.В. Короткова М.В. История для любознательных. М.: Дрофа, 1996. Ч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ирнов С.Г. Задачник по истории древнего мира. М.: МИРОС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2C2-7F04-44CB-B2B0-9AE49E085D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68280"/>
            <a:ext cx="4032000" cy="2692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16360" y="36450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ГОРА ОЛИ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68280"/>
            <a:ext cx="4032360" cy="27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720" y="4405320"/>
            <a:ext cx="729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ки, как и другие народы, верили в существования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воображали их себе подобными люд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сильными и бессмертными, считая, что они жив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ре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ли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 Северной Гре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туда, по мнению греков, они правят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F91-1751-4375-A455-9B495B055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82560"/>
            <a:ext cx="9144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Century Gothic"/>
              </a:rPr>
              <a:t>ИНТЕРАКТИВНЫЙ ТЕСТ-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246204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РОЧИТАЙ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ЙДИТЕ ПРАВИЛЬНЫЙ, ПО-ВАШЕМУ,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ОДВЕДИТЕ КУРСОР “МЫШКИ” К СООТВЕТСТВУЮЩЕМУ РИСУ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КУРСОР ИЗМЕНИТ СВОЮ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ЖМИТЕ ЛЕВОЙ КНОПКОЙ “МЫШ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ЕСЛИ ВЫ ПРАВИЛЬНО ОТВЕТИЛИ – ПОЛУЧИТЕ НА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ЧТОБЫ ПЕРЕЙТИ К РИСУНКАМ ТЕСТА – НАЖМИТЕ КНО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508640"/>
            <a:ext cx="1151280" cy="18730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49F-B559-4A4F-9276-E777C9E271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0560" y="1125360"/>
            <a:ext cx="401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о дом – подводный двор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де он 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ую колес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белых лоша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читалось, что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зывает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Символ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зуб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льф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462-EBDB-4AA5-8BDF-4DAA86F700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44760" y="3005280"/>
            <a:ext cx="369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ховный греческий бог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ец богов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0F4-3068-41A5-9CD8-BEA109D05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5680" y="1674720"/>
            <a:ext cx="433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ладыка загробного ми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рства мерт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ревностно охранял мерт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дко разрешая вер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владел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агоценными кам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металлам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15A-EE08-4ECA-8250-BE08CA59E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8560" y="32306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пруга верховн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FC2-7D7C-4EE5-81F7-27BFA1EC4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280" y="32306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ох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5E9-5E77-4054-AE5E-9A00F4F05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22:26:47Z</dcterms:created>
  <dc:creator>ХУДОБЕЦ Александр</dc:creator>
  <dc:description/>
  <dc:language>en-US</dc:language>
  <cp:lastModifiedBy>студент</cp:lastModifiedBy>
  <dcterms:modified xsi:type="dcterms:W3CDTF">2010-05-12T09:04:15Z</dcterms:modified>
  <cp:revision>25</cp:revision>
  <dc:subject/>
  <dc:title>БОГИ и БОГИНИ ДРЕВНЕЙ ГРЕЦИИ</dc:title>
</cp:coreProperties>
</file>